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DE96-5095-4461-8373-ED746EB0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8278-EBD8-47AE-8DAE-3FEA516C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B8A1-70F9-4D37-8BEA-E4BB43703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6504-80F1-4853-89AE-B0C8F2375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9A93-E8F2-4413-A333-E71F3C37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2223-1D9F-4739-94AF-9A0B20D7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227B-6264-40A6-85AF-185388E1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A8E9-3C4E-4A44-86D2-CCAD714C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F62A-4842-4EA6-9223-8404DA37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CE2E-FCEA-40B6-853A-4A165D24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B5C1-4773-47ED-971A-3E9E7052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0418-9BF0-47F3-8865-C92B0DC2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C6DE-1A92-4B19-82C1-2B273A236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TROL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Manualul de Chim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clasa a X-a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Rodica Constantinescu, Maria-Luiza Popesc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ele cercetări legate de cunoaşterea compoz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iei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ui românesc au fost iniţiate la sfârşitul secolului trecut de către Petru Poni (1841 - 1925) la Iaşi, care a izolat anumiţi termeni ai seriilor de hidrocarburi din pe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 un amestec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lex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de hidrocarburi gazoase şi solide, dizolvate în hidrocarburi lichide. Hidrocarburile frecvent întâlnite în compoziţia petrolului aparţin în general seriei alcanilor, cicloalcanilor (naftene) şi arene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lchenele şi alchinele mai reactive lipsesc din petrol. Pe lângă hidrocarburile menţionate, în petrol mai apar şi compuşi organici cu oxigen, azot sau sulf, în cantităţi foarte mic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lful trebuie îndepărtat în cursul prelucrării petrolului, deoarece prin ardere rezultă dioxid de sulf (un gaz corozi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funcţie de locul zăcământului şi de condiţiile în care acesta s-a format, în compoziţia petrolului pot predomina una sau alta dintre aceste clase de hidrocarbur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comp_i"/>
          <p:cNvPicPr/>
          <p:nvPr/>
        </p:nvPicPr>
        <p:blipFill>
          <a:blip r:embed="rId1"/>
          <a:srcRect l="0" t="9999" r="0" b="9999"/>
          <a:stretch/>
        </p:blipFill>
        <p:spPr>
          <a:xfrm>
            <a:off x="5181480" y="762120"/>
            <a:ext cx="36007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 lichid vâscos, de culoare brună, cu fluorescenţă verde-albăstruie, cu miros 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ensitatea petrolului este mai mică decât a apei, variind între 0,800 şi 0,930 g/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e insolubil în apă, formând cu aceasta o emuls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 este procesul în care au loc ruperi ale unor legături simple C-C din alcani şi cicloalcani. Cracarea poate fi termică sau catalit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teriile prime folosite la cracarea termică sunt motorina şi păcura, iar produşii rezultaţi sunt alcani şi alchene inferioare, numite gaze de cracare, benzină de cracare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racarea catalitică foloseşte în special motorina ca materie primă. Se obţin gaze de rafinărie, benzină mai bună decât cea obţinută prin cracarea termică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Ştiaţi c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În urma prelucrării complexe a petrolului se obţin circa 300 de prod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etanul este principalul constituent al gazelor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Gazele naturale, care însoţesc în general zăcămintele de petrol, sunt o sursă de materii prime pentru obţinerea de produse: îngrăşăminte, mase plastice, cauciuc cloroprenic, acetilenă, metanol, formaldehidă, solvenţi, hidrogen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7b2</cp:lastModifiedBy>
  <dcterms:modified xsi:type="dcterms:W3CDTF">2012-06-19T10:51:26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